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5943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95480" y="4227120"/>
            <a:ext cx="5943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1080" y="160020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95480" y="422712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41080" y="422712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1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360" y="1600200"/>
            <a:ext cx="191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15240" y="1600200"/>
            <a:ext cx="191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95480" y="4227120"/>
            <a:ext cx="191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905360" y="4227120"/>
            <a:ext cx="191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15240" y="4227120"/>
            <a:ext cx="1913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0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41080" y="1600200"/>
            <a:ext cx="290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1080" y="1600200"/>
            <a:ext cx="290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95480" y="422712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0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1080" y="160020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41080" y="422712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1080" y="1600200"/>
            <a:ext cx="2900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95480" y="4227120"/>
            <a:ext cx="5943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39195256"/>
          <p:cNvPicPr/>
          <p:nvPr/>
        </p:nvPicPr>
        <p:blipFill>
          <a:blip r:embed="rId2"/>
          <a:srcRect l="11677" t="0" r="28288" b="0"/>
          <a:stretch/>
        </p:blipFill>
        <p:spPr>
          <a:xfrm>
            <a:off x="0" y="0"/>
            <a:ext cx="2805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1800" y="2130480"/>
            <a:ext cx="5867280" cy="2365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imple Econom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67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"Homer Price" by Robert McCloskey in your social studies textbook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" indent="-6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" indent="-6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y get people to buy more doughnu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" indent="-67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dvertising idea was the most successful? 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income a business has left over after all its costs are paid.  This includes paying the workers, the goods, and for the building, electricity, etc.  That is why a person who owns a business has to sell a product for more money than they paid for it.  The owner tries to keep the price down by buying the product to sell at the lowest possible cost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48120" y="476928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wants to buy a new video game.  The game costs $20.00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0947005"/>
          <p:cNvPicPr/>
          <p:nvPr/>
        </p:nvPicPr>
        <p:blipFill>
          <a:blip r:embed="rId1"/>
          <a:stretch/>
        </p:blipFill>
        <p:spPr>
          <a:xfrm>
            <a:off x="4419720" y="228600"/>
            <a:ext cx="270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95480" y="380520"/>
            <a:ext cx="6019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hart below, how many weeks will Al have to save his allowance in order to buy the video g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00400" y="2209680"/>
          <a:ext cx="5410080" cy="4114800"/>
        </p:xfrm>
        <a:graphic>
          <a:graphicData uri="http://schemas.openxmlformats.org/drawingml/2006/table">
            <a:tbl>
              <a:tblPr/>
              <a:tblGrid>
                <a:gridCol w="1066680"/>
                <a:gridCol w="1524240"/>
                <a:gridCol w="1600200"/>
                <a:gridCol w="1218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9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correct.  It will take 4 week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0947005"/>
          <p:cNvPicPr/>
          <p:nvPr/>
        </p:nvPicPr>
        <p:blipFill>
          <a:blip r:embed="rId1"/>
          <a:stretch/>
        </p:blipFill>
        <p:spPr>
          <a:xfrm>
            <a:off x="4495680" y="1371600"/>
            <a:ext cx="2710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like to earn money, save money or spend mone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id that you like spending money, then you are contributing to our coun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of making, buying and selling goo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ake a purchase, you are buying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f you can identify which ones of these are goods and which are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re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your hair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200400" y="1676520"/>
            <a:ext cx="56386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 is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service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971800" y="1371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a new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3200400" y="1676520"/>
            <a:ext cx="56386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 just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ught goods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971800" y="24382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3124080" y="1752480"/>
            <a:ext cx="5639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 just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ought goods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971800" y="34290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your teeth clea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276720" y="1828800"/>
            <a:ext cx="5638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 is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service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971800" y="46483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your cell phone b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276720" y="1676520"/>
            <a:ext cx="56386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 is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service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ings people make or grow and then s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bs people do for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this . . . You own a business that sells school supplies.  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see how you make your business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beginning of the school year.  What do most kids need at the beginning of the school yea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9111716"/>
          <p:cNvPicPr/>
          <p:nvPr/>
        </p:nvPicPr>
        <p:blipFill>
          <a:blip r:embed="rId1"/>
          <a:stretch/>
        </p:blipFill>
        <p:spPr>
          <a:xfrm>
            <a:off x="4419720" y="2286000"/>
            <a:ext cx="3657600" cy="2432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04812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ight – crayons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business owner, you need to make money on the items that you sell.  That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 at the beginning of the school year, you might decide to sell your crayons at a higher price than what you actually paid for them.  You have a large supply of crayons which means that if you sell a lot of them, you could make a go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eginning of the school year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rayons is high because many parents are buying them for their children who need them in school.  Becaus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igh, your store can ask for a higher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0512012"/>
          <p:cNvPicPr/>
          <p:nvPr/>
        </p:nvPicPr>
        <p:blipFill>
          <a:blip r:embed="rId1"/>
          <a:stretch/>
        </p:blipFill>
        <p:spPr>
          <a:xfrm>
            <a:off x="4267080" y="3990960"/>
            <a:ext cx="3886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971800" y="4568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magine your store is selling crayons a few months later in November. 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your crayons will be lower at this time of year.  You still may have a large supply of crayons.  Therefore, you may decide to put your crayons on sale                                   and ask for a                                lower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1574592"/>
          <p:cNvPicPr/>
          <p:nvPr/>
        </p:nvPicPr>
        <p:blipFill>
          <a:blip r:embed="rId1"/>
          <a:stretch/>
        </p:blipFill>
        <p:spPr>
          <a:xfrm>
            <a:off x="5486400" y="4343400"/>
            <a:ext cx="33526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03:59Z</dcterms:created>
  <dc:creator>Plano ISD</dc:creator>
  <dc:description/>
  <dc:language>en-US</dc:language>
  <cp:lastModifiedBy>McKinney ISD</cp:lastModifiedBy>
  <dcterms:modified xsi:type="dcterms:W3CDTF">2014-09-24T21:38:39Z</dcterms:modified>
  <cp:revision>14</cp:revision>
  <dc:subject/>
  <dc:title>Have Problem . . . Will Solve  Simple Economics</dc:title>
</cp:coreProperties>
</file>